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186-0F77-4052-8C7D-7D81D49C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0F7-5ED5-4820-B566-00C7E45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B00-239E-4E66-BEA3-060AF17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5D2-974F-4A72-8E54-9364D81C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E5-4605-4A8E-B25E-8A84F97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F1E-E500-4CF3-AAF4-990E5A40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A49-4947-4420-BAD7-2B604D0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BAC-E145-4E8C-BDBD-15BCFC9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EFB-9E9A-4803-9F6B-EA83936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BEA-6ECD-4D79-A7A6-F92C693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A12-049E-44C4-9F39-29E9F1C7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44A-CB4F-4189-B982-00A4A262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012-4033-46EA-BB5A-299A4C19F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SSESSMENT REVIEW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eek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1400" y="4440240"/>
            <a:ext cx="1822680" cy="1860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67004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population of Tahiti in 2000 was about 12 281 000. What is this number in scientific no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2. The new stand price of a magazine is discounted 28% for subscribers. The new stand price is $5.00. What’s the subscription pr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3. The lead on Jack’s pencil is 140mm long. What’s the length in c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4. Syd wrote a list of numbers using a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8, 15, 24,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ased on the rule, what should be the next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32600" y="3503520"/>
            <a:ext cx="18702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5. There were 5 women, 14 men and 21 children on a bus. One person signaled the driver to stop. What’s the probability that the person was a w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6. A bag contains 5 green, 8 blue, 3 yellow and 4 orange marbles. What’s the probability of drawing either a green or yellow mar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7. A square has an area of 12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. What is its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8. Jane’s height is 0.75 of her brother’s height. He is 1.8m tall. How tall is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75480" y="5289480"/>
            <a:ext cx="197784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drumroll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11:46Z</dcterms:created>
  <dc:creator>krista.graham</dc:creator>
  <dc:description/>
  <dc:language>en-US</dc:language>
  <cp:lastModifiedBy>krista.graham</cp:lastModifiedBy>
  <dcterms:modified xsi:type="dcterms:W3CDTF">2008-10-23T16:34:11Z</dcterms:modified>
  <cp:revision>3</cp:revision>
  <dc:subject/>
  <dc:title>ASSESSMENT REVIEW </dc:title>
</cp:coreProperties>
</file>